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812-A10A-427B-A026-E57E4F38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36D-C9C2-497E-B4AF-F2E62ACE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1A1-4ED5-41B5-99A8-675496C1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CEF-521B-4804-8B6A-EA338634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3C17-276B-4AB3-B653-A3D8C8B5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7DBB-916E-4771-95D3-31B85046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6EFD-1CFA-4BD3-A5F5-D8FC402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D109-8A3C-4B64-B26E-79BF2FC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95DA-2B2A-44CF-9C5B-1F31E070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A9ED-0F95-41C6-A3E5-1E6225B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CE57-E1E6-4E1D-BF92-D6897427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E03-0EFF-406C-9C70-19AEEDA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5B4F-8347-4573-B13A-C0CDC6F5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8BFD-BF1F-4436-8846-9D182633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2F06-7599-4D79-8A71-7ADFB70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6A89-C4F8-4A32-9A36-D1D766F1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2ED-1DB0-42EC-BC5D-A0EC77C1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CA59-8BD8-4265-B141-DE0FBC0E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6C17-3A24-4789-B428-29664A22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0F23-95C7-4AB9-B8C0-25DFB7BF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8BB9-BDEA-426F-B920-2469A96E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FB08-3C25-4AA0-9946-BF41D931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36E-4217-4A57-B6A0-C5C66163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FC93-0F3F-40A3-9416-35BFD5FC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29F5-48CB-45C7-A167-E8FC4F49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A27B-C6AC-477F-A9BB-A190A5B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4B4A-C2C4-40E1-9E9F-2B6F9EE9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322F-7557-4F5A-93D3-AFED7422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0F29-9DB6-4850-80EE-9CE750E5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8599-7372-4C41-BFC6-271FB1B6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78D-1388-43D5-887E-7CF938D5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C77-1674-4F39-B02F-EFD18707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B93-4F0F-401F-AAEA-85FC3487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8D6-D4AD-4EF9-9974-5247F806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D5C-3E8B-49D8-9359-D322F05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216-3C6A-4BBA-B082-7388077B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51960" y="2057400"/>
            <a:ext cx="41648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Ligh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РАНА - 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Текстовое поле 4"/>
          <p:cNvSpPr/>
          <p:nvPr/>
        </p:nvSpPr>
        <p:spPr>
          <a:xfrm>
            <a:off x="1144440" y="1087920"/>
            <a:ext cx="10476000" cy="9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 успешной карьере летчика в детстве Валерий Чкалов мог только мечтать. Родился он в семье котельщика, рано потерял мать и рос в довольно тяжелых условиях. После учебы в речном ремесленном училище он устроился работать сначала кузнецом, а потом кочегаром на землечерпалку, параллельно помогая отцу на службе. В пятнадцать лет он увидел в небе самолет, и это навсегда перевернуло его жизнь — уволившись с работы, он пошел в Красную Армию, чтобы обучаться летному делу и быть ближе к своей новой высокой стра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мещающая рамка рисунка 105" descr=""/>
          <p:cNvPicPr/>
          <p:nvPr/>
        </p:nvPicPr>
        <p:blipFill>
          <a:blip r:embed="rId1"/>
          <a:stretch/>
        </p:blipFill>
        <p:spPr>
          <a:xfrm>
            <a:off x="513720" y="126360"/>
            <a:ext cx="11550960" cy="643860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АНТ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мещающая рамка рисунка 106" descr=""/>
          <p:cNvPicPr/>
          <p:nvPr/>
        </p:nvPicPr>
        <p:blipFill>
          <a:blip r:embed="rId1"/>
          <a:stretch/>
        </p:blipFill>
        <p:spPr>
          <a:xfrm>
            <a:off x="1181880" y="377280"/>
            <a:ext cx="9828720" cy="6103440"/>
          </a:xfrm>
          <a:prstGeom prst="rect">
            <a:avLst/>
          </a:prstGeom>
          <a:ln w="9525">
            <a:noFill/>
          </a:ln>
        </p:spPr>
      </p:pic>
      <p:sp>
        <p:nvSpPr>
          <p:cNvPr id="144" name="Текстовое поле 6"/>
          <p:cNvSpPr/>
          <p:nvPr/>
        </p:nvSpPr>
        <p:spPr>
          <a:xfrm>
            <a:off x="734400" y="850320"/>
            <a:ext cx="1955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Л 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рдена - «Красного знамени» и «Ле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Замещающее содержимое 107" descr=""/>
          <p:cNvPicPr/>
          <p:nvPr/>
        </p:nvPicPr>
        <p:blipFill>
          <a:blip r:embed="rId1"/>
          <a:stretch/>
        </p:blipFill>
        <p:spPr>
          <a:xfrm>
            <a:off x="5570280" y="1585080"/>
            <a:ext cx="3771000" cy="4782600"/>
          </a:xfrm>
          <a:prstGeom prst="rect">
            <a:avLst/>
          </a:prstGeom>
          <a:ln w="9525">
            <a:noFill/>
          </a:ln>
        </p:spPr>
      </p:pic>
      <p:pic>
        <p:nvPicPr>
          <p:cNvPr id="147" name="Замещающее содержимое 108" descr=""/>
          <p:cNvPicPr/>
          <p:nvPr/>
        </p:nvPicPr>
        <p:blipFill>
          <a:blip r:embed="rId2"/>
          <a:stretch/>
        </p:blipFill>
        <p:spPr>
          <a:xfrm>
            <a:off x="647640" y="1584360"/>
            <a:ext cx="3994560" cy="4782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мещающая рамка рисунка 109" descr=""/>
          <p:cNvPicPr/>
          <p:nvPr/>
        </p:nvPicPr>
        <p:blipFill>
          <a:blip r:embed="rId1"/>
          <a:stretch/>
        </p:blipFill>
        <p:spPr>
          <a:xfrm>
            <a:off x="578520" y="248760"/>
            <a:ext cx="10433880" cy="6248520"/>
          </a:xfrm>
          <a:prstGeom prst="rect">
            <a:avLst/>
          </a:prstGeom>
          <a:ln w="9525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Байдуков- мастер слепого полета, Чкалов и Беля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мещающая рамка рисунка 111" descr=""/>
          <p:cNvPicPr/>
          <p:nvPr/>
        </p:nvPicPr>
        <p:blipFill>
          <a:blip r:embed="rId1"/>
          <a:stretch/>
        </p:blipFill>
        <p:spPr>
          <a:xfrm>
            <a:off x="1356840" y="301680"/>
            <a:ext cx="9192600" cy="6090480"/>
          </a:xfrm>
          <a:prstGeom prst="rect">
            <a:avLst/>
          </a:prstGeom>
          <a:ln w="9525">
            <a:noFill/>
          </a:ln>
        </p:spPr>
      </p:pic>
      <p:sp>
        <p:nvSpPr>
          <p:cNvPr id="151" name="Текстовое поле 9"/>
          <p:cNvSpPr/>
          <p:nvPr/>
        </p:nvSpPr>
        <p:spPr>
          <a:xfrm>
            <a:off x="1069560" y="1223640"/>
            <a:ext cx="437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мятник В.П. Чкалову в г. Гор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2060640" y="803160"/>
            <a:ext cx="7705440" cy="578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г. ЕКАТЕРИН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1460520" y="1384200"/>
            <a:ext cx="5962320" cy="508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Замещающее содержимое 99" descr=""/>
          <p:cNvPicPr/>
          <p:nvPr/>
        </p:nvPicPr>
        <p:blipFill>
          <a:blip r:embed="rId1"/>
          <a:stretch/>
        </p:blipFill>
        <p:spPr>
          <a:xfrm>
            <a:off x="354960" y="258480"/>
            <a:ext cx="11207520" cy="648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Замещающее содержимое 100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240" cy="591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4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647640" y="177120"/>
            <a:ext cx="10998360" cy="6427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мещающее содержимое 103" descr=""/>
          <p:cNvPicPr/>
          <p:nvPr/>
        </p:nvPicPr>
        <p:blipFill>
          <a:blip r:embed="rId1"/>
          <a:stretch/>
        </p:blipFill>
        <p:spPr>
          <a:xfrm>
            <a:off x="907560" y="423720"/>
            <a:ext cx="10376640" cy="611676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. П.Чк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960" cy="64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мещающая рамка рисунка 104" descr=""/>
          <p:cNvPicPr/>
          <p:nvPr/>
        </p:nvPicPr>
        <p:blipFill>
          <a:blip r:embed="rId1"/>
          <a:stretch/>
        </p:blipFill>
        <p:spPr>
          <a:xfrm>
            <a:off x="346680" y="205920"/>
            <a:ext cx="11556000" cy="646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09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5T09:19:00Z</dcterms:created>
  <dc:creator/>
  <dc:description/>
  <dc:language>en-US</dc:language>
  <cp:lastModifiedBy>Olga</cp:lastModifiedBy>
  <dcterms:modified xsi:type="dcterms:W3CDTF">2023-10-20T09:46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8AD128D1CA74EA187829E0DB8889C6F</vt:lpwstr>
  </property>
  <property fmtid="{D5CDD505-2E9C-101B-9397-08002B2CF9AE}" pid="3" name="KSOProductBuildVer">
    <vt:lpwstr>1049-12.2.0.13266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